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B5A-D89E-4728-9C44-026AA22D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2EAF-53A6-4796-B735-E22757A66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A61-BCFA-483E-A732-E0DD91A7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D55-E8D2-4653-B6B8-A2D55864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6E2-F057-4D99-AF6E-1B64CFF9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749-4B8B-4D87-A00D-089A5CCB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DC7-C782-4D37-8B82-A2DE29EF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4F7-F246-4989-B6E2-86F24B3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40F-BE67-4FC9-A099-FDD7EDD3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46F-CF18-4991-BCB8-6A220A17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B27-C4C7-4624-A4D8-0F1B246E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AE4-57AC-409C-AD84-F991E06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C25-9A28-422F-BB2D-C13DA28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518-DFE2-48E8-9FF6-8CC806C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8EB1-F7F9-4F06-8061-9483C7E8B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7242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973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Usted de donde mi escuel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recordar 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3Z</dcterms:modified>
  <cp:revision>106</cp:revision>
  <dc:subject/>
  <dc:title>Profile</dc:title>
</cp:coreProperties>
</file>